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844C-05B3-4F8E-A782-D222F7AF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0DE3-9180-498B-AD83-33D4A58D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12F-5913-45F9-86E2-C09181FD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770-8499-43BF-B644-AC0E6F9B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34C1-7A64-42AF-A04D-8BF08430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F6EB-7C67-49E5-9AF9-E15BD618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9C7C-CAB7-4A24-8E85-1850D3D9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C4D9-8A1F-4882-80CC-49C6A5EF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AD9D-2CC1-434E-9C01-33D8270D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252D-8EFA-404E-B56F-537A2496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8AE4-D519-4FB9-A59B-D3BDC74E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F59-799E-440B-B396-3B2E8A0E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640F-0A1A-4DC0-A2C1-895D5246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38B0-C339-48A7-8D01-93381DDE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4FD8-55A2-45A5-A9AC-A202D7CF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700A-D56F-4904-868A-3F3D23DE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4D49-4C1F-4F6B-A262-EA092CD3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01CC-2DD4-45F2-BFCB-892B0ECB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8AB-AD91-4BF7-AF81-F6D77DF7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1EC-7EA2-4A1D-A4FD-E70F11ED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234-DD21-46C9-A91F-389D4B5A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BA88-B0C9-42D1-962E-DA868546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9B97-DEBA-48B8-A19D-93FE5252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46D1-FF57-4C9D-8C1F-3D72E2E1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066C-6BBB-4991-8050-0A5A1DB41F29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0949-0418-41E7-AA1F-BFD37C8539F9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6781680" cy="10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100" spc="-1" strike="noStrike">
                <a:solidFill>
                  <a:srgbClr val="330066"/>
                </a:solidFill>
                <a:latin typeface="Arial"/>
              </a:rPr>
              <a:t>Twierdzenie sinusów</a:t>
            </a:r>
            <a:endParaRPr b="1" lang="en-US" sz="51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7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3313080" cy="31068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00360" y="122400"/>
            <a:ext cx="350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0066"/>
                </a:solidFill>
                <a:latin typeface="Arial"/>
              </a:rPr>
              <a:t>Twierdzenie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11280" y="177336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 dowolnym trójkącie stosunek długości boku do sinusa kąta przeciwległego jest wielkością stałą i  równą średnicy okręgu opisanego na tym trójką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>
            <a:off x="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7"/>
              <p:cNvSpPr txBox="1"/>
              <p:nvPr/>
            </p:nvSpPr>
            <p:spPr>
              <a:xfrm>
                <a:off x="3419640" y="3933720"/>
                <a:ext cx="531792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42920" y="122400"/>
            <a:ext cx="3357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0066"/>
                </a:solidFill>
                <a:latin typeface="Arial"/>
              </a:rPr>
              <a:t>Dowód cz.1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2664000" cy="24969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5"/>
              <p:cNvSpPr txBox="1"/>
              <p:nvPr/>
            </p:nvSpPr>
            <p:spPr>
              <a:xfrm>
                <a:off x="4788000" y="2492280"/>
                <a:ext cx="294300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7"/>
          <p:cNvSpPr/>
          <p:nvPr/>
        </p:nvSpPr>
        <p:spPr>
          <a:xfrm>
            <a:off x="2843280" y="1773360"/>
            <a:ext cx="59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rzystamy z następującego wzoru na pole trójką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39640" y="3357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równujemy dwa dowolne pola trójkątów wykorzystując powyższy wzó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2556000" y="4221000"/>
                <a:ext cx="39812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1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3276720" y="5229360"/>
                <a:ext cx="25336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14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3"/>
              <p:cNvSpPr txBox="1"/>
              <p:nvPr/>
            </p:nvSpPr>
            <p:spPr>
              <a:xfrm>
                <a:off x="3564000" y="5661000"/>
                <a:ext cx="19620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42920" y="122400"/>
            <a:ext cx="3357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0066"/>
                </a:solidFill>
                <a:latin typeface="Arial"/>
              </a:rPr>
              <a:t>Dowód cz.2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7"/>
              <p:cNvSpPr txBox="1"/>
              <p:nvPr/>
            </p:nvSpPr>
            <p:spPr>
              <a:xfrm>
                <a:off x="338040" y="1197000"/>
                <a:ext cx="39513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8"/>
              <p:cNvSpPr txBox="1"/>
              <p:nvPr/>
            </p:nvSpPr>
            <p:spPr>
              <a:xfrm>
                <a:off x="1085760" y="2060640"/>
                <a:ext cx="24465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9"/>
              <p:cNvSpPr txBox="1"/>
              <p:nvPr/>
            </p:nvSpPr>
            <p:spPr>
              <a:xfrm>
                <a:off x="1360440" y="2565360"/>
                <a:ext cx="190512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Text Box 21"/>
          <p:cNvSpPr/>
          <p:nvPr/>
        </p:nvSpPr>
        <p:spPr>
          <a:xfrm>
            <a:off x="250920" y="357336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rzystając ze wzorów sinusa w trójkącie oraz z własności kąta środkowego i wpisanego, wie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2"/>
              <p:cNvSpPr txBox="1"/>
              <p:nvPr/>
            </p:nvSpPr>
            <p:spPr>
              <a:xfrm>
                <a:off x="826920" y="5157720"/>
                <a:ext cx="148608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3" name="Picture 24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3627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0066"/>
                </a:solidFill>
                <a:latin typeface="Arial"/>
              </a:rPr>
              <a:t>Dowód cz.3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10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3024000" cy="24321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2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1"/>
              <p:cNvSpPr txBox="1"/>
              <p:nvPr/>
            </p:nvSpPr>
            <p:spPr>
              <a:xfrm>
                <a:off x="611280" y="1197000"/>
                <a:ext cx="1828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Rectangle 14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3"/>
              <p:cNvSpPr txBox="1"/>
              <p:nvPr/>
            </p:nvSpPr>
            <p:spPr>
              <a:xfrm>
                <a:off x="539640" y="2276640"/>
                <a:ext cx="18288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Rectangle 16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5"/>
              <p:cNvSpPr txBox="1"/>
              <p:nvPr/>
            </p:nvSpPr>
            <p:spPr>
              <a:xfrm>
                <a:off x="539640" y="2852640"/>
                <a:ext cx="16480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Text Box 17"/>
          <p:cNvSpPr/>
          <p:nvPr/>
        </p:nvSpPr>
        <p:spPr>
          <a:xfrm>
            <a:off x="468360" y="3933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8"/>
              <p:cNvSpPr txBox="1"/>
              <p:nvPr/>
            </p:nvSpPr>
            <p:spPr>
              <a:xfrm>
                <a:off x="900000" y="4508640"/>
                <a:ext cx="511200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1:22:23Z</dcterms:created>
  <dc:creator>_foxx</dc:creator>
  <dc:description/>
  <dc:language>en-US</dc:language>
  <cp:lastModifiedBy>AP</cp:lastModifiedBy>
  <dcterms:modified xsi:type="dcterms:W3CDTF">2015-04-07T03:35:13Z</dcterms:modified>
  <cp:revision>14</cp:revision>
  <dc:subject/>
  <dc:title>Twierdzenie sinusów</dc:title>
</cp:coreProperties>
</file>